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E9E2-48A2-49F3-A78C-11AFA421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614-AD25-4D0B-BC7A-992864E4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83DC-D06E-4A10-93DF-23E99CB7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80AF-C17D-4D30-8A54-4AEB3F1D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8CF-9E8E-4B5C-BB29-1567F6CD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5B5-A55B-4410-B090-7F163427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9718-B330-4A3D-AC8F-377D052F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1918-7807-493D-A8A0-7F49A4CE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9A4-14B9-412C-8CA5-939D0465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09F4-492D-4286-85C9-161F737D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9A4-EB60-4F5D-8843-05A00EA7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73B-5BB8-4716-8F57-8AAD0A86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55A8-F3C7-4FAC-8294-37A7AE418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97600" cy="3822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140360" y="0"/>
            <a:ext cx="5003640" cy="375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4076640"/>
            <a:ext cx="4465800" cy="2592360"/>
          </a:xfrm>
          <a:prstGeom prst="wedgeEllipseCallout">
            <a:avLst>
              <a:gd name="adj1" fmla="val 26148"/>
              <a:gd name="adj2" fmla="val -84537"/>
            </a:avLst>
          </a:prstGeom>
          <a:gradFill rotWithShape="0">
            <a:gsLst>
              <a:gs pos="0">
                <a:srgbClr val="ffcc00">
                  <a:alpha val="72156"/>
                </a:srgbClr>
              </a:gs>
              <a:gs pos="50000">
                <a:srgbClr val="99cc00"/>
              </a:gs>
              <a:gs pos="100000">
                <a:srgbClr val="ffcc00">
                  <a:alpha val="7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508464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! We are  in 1st grade at CEIP San Juan Bautista.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227640" y="4581360"/>
            <a:ext cx="1886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364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284720" y="0"/>
            <a:ext cx="4859280" cy="3643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700360" y="4265640"/>
            <a:ext cx="4465440" cy="2592360"/>
          </a:xfrm>
          <a:prstGeom prst="wedgeEllipseCallout">
            <a:avLst>
              <a:gd name="adj1" fmla="val -34643"/>
              <a:gd name="adj2" fmla="val -81722"/>
            </a:avLst>
          </a:prstGeom>
          <a:gradFill rotWithShape="0">
            <a:gsLst>
              <a:gs pos="0">
                <a:srgbClr val="9900cc">
                  <a:alpha val="72156"/>
                </a:srgbClr>
              </a:gs>
              <a:gs pos="50000">
                <a:srgbClr val="bbe0e3"/>
              </a:gs>
              <a:gs pos="100000">
                <a:srgbClr val="9900cc">
                  <a:alpha val="7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4869000"/>
            <a:ext cx="3457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working together and now we are counting th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335480" y="3251160"/>
            <a:ext cx="4808520" cy="360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651640" cy="4238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4265640"/>
            <a:ext cx="4465800" cy="2592360"/>
          </a:xfrm>
          <a:prstGeom prst="wedgeEllipseCallout">
            <a:avLst>
              <a:gd name="adj1" fmla="val 41078"/>
              <a:gd name="adj2" fmla="val -82824"/>
            </a:avLst>
          </a:prstGeom>
          <a:gradFill rotWithShape="0">
            <a:gsLst>
              <a:gs pos="0">
                <a:srgbClr val="99ff66">
                  <a:alpha val="72156"/>
                </a:srgbClr>
              </a:gs>
              <a:gs pos="50000">
                <a:srgbClr val="eeb0de"/>
              </a:gs>
              <a:gs pos="100000">
                <a:srgbClr val="99ff66">
                  <a:alpha val="7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2354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26 children in our classro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2556000"/>
            <a:ext cx="5735520" cy="4302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211640" y="0"/>
            <a:ext cx="5195880" cy="3897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78200" y="4265640"/>
            <a:ext cx="4465800" cy="2592360"/>
          </a:xfrm>
          <a:prstGeom prst="wedgeEllipseCallout">
            <a:avLst>
              <a:gd name="adj1" fmla="val -60097"/>
              <a:gd name="adj2" fmla="val -74861"/>
            </a:avLst>
          </a:prstGeom>
          <a:gradFill rotWithShape="0">
            <a:gsLst>
              <a:gs pos="0">
                <a:srgbClr val="ffcc00"/>
              </a:gs>
              <a:gs pos="100000">
                <a:srgbClr val="ff3300">
                  <a:alpha val="7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6560" y="529416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12 boys and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73680" y="0"/>
            <a:ext cx="5170320" cy="3878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rcRect l="0" t="0" r="5911" b="0"/>
          <a:stretch/>
        </p:blipFill>
        <p:spPr>
          <a:xfrm>
            <a:off x="0" y="3213000"/>
            <a:ext cx="4572000" cy="3645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78200" y="4265640"/>
            <a:ext cx="4465800" cy="2592360"/>
          </a:xfrm>
          <a:prstGeom prst="wedgeEllipseCallout">
            <a:avLst>
              <a:gd name="adj1" fmla="val -34643"/>
              <a:gd name="adj2" fmla="val -81722"/>
            </a:avLst>
          </a:prstGeom>
          <a:gradFill rotWithShape="0">
            <a:gsLst>
              <a:gs pos="0">
                <a:srgbClr val="ffff99">
                  <a:alpha val="72156"/>
                </a:srgbClr>
              </a:gs>
              <a:gs pos="50000">
                <a:srgbClr val="b0e8ee"/>
              </a:gs>
              <a:gs pos="100000">
                <a:srgbClr val="ffff99">
                  <a:alpha val="7215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18200" y="5013360"/>
            <a:ext cx="34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there are 14 gir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you like to work with 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9:56:48Z</dcterms:created>
  <dc:creator>Sobremesa</dc:creator>
  <dc:description/>
  <dc:language>en-US</dc:language>
  <cp:lastModifiedBy>Sobremesa</cp:lastModifiedBy>
  <dcterms:modified xsi:type="dcterms:W3CDTF">2011-10-13T17:38:25Z</dcterms:modified>
  <cp:revision>10</cp:revision>
  <dc:subject/>
  <dc:title>Diapositiva 1</dc:title>
</cp:coreProperties>
</file>